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E3C-9471-4373-95E3-CE741272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62A-45DB-412A-A804-D8DCE4E8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16D-CA2A-40A5-948F-7E6C896A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346-D959-44A6-98D2-35714C61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8F0-51B7-4008-8FD9-07970613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DF0-35EF-4DC5-A196-48B49E5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B87-F1E8-44AF-8BFA-876A88FA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AE3-74EE-406B-B627-00A4B9C0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0E3-82CD-47E7-B19B-16FD42A0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D80-273C-494F-A74E-E2E17A85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F13-EB69-437C-8726-BDFBAAB4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1B2-259E-4B56-A141-43C7D16C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41D6-7C1C-4D06-8E05-60C1E08BD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: answer the following questions in your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rrect chem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barium 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opper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What are the differences between physical and chemical changes? Giv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mily's HD:Users:emilyhall:Downloads:Hindenburg Explodes! Scores Dead - Special Release 1937_05_10 [www.keepvid.com].mp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dium hydroxide + hydrogen chloride form water and sodium chlor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lcium + Oxygen form calcium ox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-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Pb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-&gt;    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ormula equation and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chloride reacts with sulfuric acid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produce sodium sulfate and hydrochloric acid (H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3:19:59Z</dcterms:created>
  <dc:creator>Emily Hall</dc:creator>
  <dc:description/>
  <dc:language>en-US</dc:language>
  <cp:lastModifiedBy>Emily Hall</cp:lastModifiedBy>
  <dcterms:modified xsi:type="dcterms:W3CDTF">2010-11-17T05:30:22Z</dcterms:modified>
  <cp:revision>7</cp:revision>
  <dc:subject/>
  <dc:title>DO NOW: answer the following questions in your notebook</dc:title>
</cp:coreProperties>
</file>